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318A-34F4-47F3-A92B-A1AF8B568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9BC7-BBA7-4020-9746-D76F3C158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FDFE-9629-4BA8-85B8-7938547ED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2636-733A-400F-998D-DF03BAD98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5763-AF67-431F-893F-5F6EDEEFC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00DB-FE03-404F-A3AC-9AEBF2B83E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3D4B-DFED-4AC0-9C58-ADC70EFAD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18AB-493B-447A-9135-4ABC69A3B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F66B-97E7-47D4-982A-B49D4DB09C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E7A8-9E7F-4BDB-8A4F-30AEF44F55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A13E-4B61-4DF2-A2A1-8CA5B19D65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7D60-1723-4A26-A894-9C3F761E3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7D97-5145-462D-A153-AE44310264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394F-A4A1-45A8-AD8F-775EAC8F24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2364B-F6A4-4CE0-906A-9B584D9DF8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904B-4CBA-4117-AB9A-24D4AADC6F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D4CA-ED30-4480-A6A7-023B2DE13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6EB7-4C08-4083-BCFB-A7544D80B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D844-548C-4AD5-A09D-6DFF3AD9F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FAA2-9816-4AE7-AD1C-2A71ECDE1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32EB-0725-40FC-8989-1EE3ED6AA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61F7-AABD-41F0-B0C7-E641CF46F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5821-D714-4F78-ACC6-58D6A3533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8F62-A853-4496-ADDC-E7EC3CC70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781680" cy="2600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66"/>
                </a:solidFill>
                <a:latin typeface="Arial Bold"/>
              </a:rPr>
              <a:t>Click to edit the title text format</a:t>
            </a:r>
            <a:endParaRPr b="0" lang="en-US" sz="48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8880" y="3049200"/>
            <a:ext cx="6248520" cy="38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7000"/>
          </a:bodyPr>
          <a:p>
            <a:pPr marL="38160"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 Ital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Bold Italic"/>
            </a:endParaRPr>
          </a:p>
          <a:p>
            <a:pPr lvl="1" marL="3816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 Ital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Bold Italic"/>
            </a:endParaRPr>
          </a:p>
          <a:p>
            <a:pPr lvl="2" marL="3816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 Ital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Bold Italic"/>
            </a:endParaRPr>
          </a:p>
          <a:p>
            <a:pPr lvl="3" marL="3816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 Ital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Bold Italic"/>
            </a:endParaRPr>
          </a:p>
          <a:p>
            <a:pPr lvl="4" marL="3816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 Ital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Bold Italic"/>
            </a:endParaRPr>
          </a:p>
          <a:p>
            <a:pPr lvl="5" marL="3816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 Ital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Bold Italic"/>
            </a:endParaRPr>
          </a:p>
          <a:p>
            <a:pPr lvl="6" marL="3816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 Ital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9124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3762-BCF6-47BC-A2DB-FC747FD73DD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Click to edit the title text format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681120" indent="-347760"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2" marL="976320" indent="-293760">
              <a:spcBef>
                <a:spcPts val="601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3" marL="1270080" indent="-292320">
              <a:spcBef>
                <a:spcPts val="6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4" marL="1587600" indent="-316080">
              <a:spcBef>
                <a:spcPts val="6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5" marL="1587600" indent="-316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6" marL="1587600" indent="-316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9124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93BD-6FEA-42B1-B59A-C2984855C64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781680" cy="2600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66"/>
                </a:solidFill>
                <a:latin typeface="Arial Bold"/>
              </a:rPr>
              <a:t>Chapter 3</a:t>
            </a:r>
            <a:endParaRPr b="0" lang="en-US" sz="48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48880" y="3049200"/>
            <a:ext cx="6248520" cy="3808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 Italic"/>
              </a:rPr>
              <a:t>Europe</a:t>
            </a:r>
            <a:endParaRPr b="0" lang="en-US" sz="3000" spc="-1" strike="noStrike">
              <a:solidFill>
                <a:srgbClr val="000000"/>
              </a:solidFill>
              <a:latin typeface="Arial Bold Ital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406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Global Changes and Local Responses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Population Pattern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 and Zero population growth ra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0840" indent="-29196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s: Albania, Bosnia-Herzegovina, Mac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ban-Rural Shif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banization and Urban Landsca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tr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men, Power, and Soci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442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Global Changes and Local Responses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Changes in Europe’s Economic Geography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ive capa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r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glomeration econom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graphic inert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industr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478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Global Changes and Local Responses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Planning and Privatization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ing in non-Communist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50s: locating new factories in poor are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70s: EU regional poli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80s &amp; 1990s: reduction in government prote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0s: extensive privat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514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Global Changes and Local Responses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n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i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Tourism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Global City-Region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550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Western Europe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ow Countries: Belgium, Netherlands, Luxembou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pine Countries: Austria, Switzerland, Liechtenste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586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Western Europe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People: Ethnicity and Culture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migrant Workfo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uest work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ug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Economic Development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phisticated Manufacturing Indus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tos, airpla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al, oil, natural gas, nucl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Indus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er services, produc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622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Northern Europe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eroe Isla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een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e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jo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658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Northern Europe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People: Ethnicity and Culture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ndinavians, Finns, S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ngelical Lutheran Christia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Economic Development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riculture: Denmark; Wood products: Sweden, Finland; Oil and gas: Norw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-tech: Swed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: high GDP per cap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694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Mediterranean Europe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or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a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tican City (Holy S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n Mar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730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Mediterranean Europe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People: Ethnicity and Culture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mance languages, Roman Catholic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rtuguese, Spain, Ita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ern Orthodox, Cyrillic alphab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116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European Influences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Europe is a heart for many contemporary global ideas and practic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771640"/>
            <a:ext cx="405144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moc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ristia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loni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eri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Enlighte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2771640"/>
            <a:ext cx="405144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tionalis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sc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ci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mu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1880" indent="-347760">
              <a:lnSpc>
                <a:spcPct val="8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766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Mediterranean Europe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Economic Development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ket garde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Tourism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ic s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802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East Central Europe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vak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1752480"/>
            <a:ext cx="4203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om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ulg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love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roat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osnia &amp; Herzegov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rbia &amp; Monteneg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12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839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East Central Europe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Yugoslavia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d following World War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lovenes &amp; Croats: Roman Cathol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rbs, Macedonians, Bulgarians: Eastern Orthod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snians: Muslims, Roman Catholic, E. Orthod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olution in 19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med conflict involving Croats, Serbs, Bosni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osov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875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East Central Europe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People: Ethnicity and Culture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stern Slavs: Poles, Czechs, Slovaks, Sor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th Slavs: Slovenes, Croats, Serbs, Bulgarians, Macedoni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lavic languages domin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0840" indent="-29196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anian is Romance language; Estonian is Finno-Ug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911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East Central Europe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Ethnic Tension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redent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nic clean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imilation, expulsion, extermin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ocidal r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947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East Central Europe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Economic Development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 late to industrial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or to World War I, the region was dominated by empires who tre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nce of Communism following World War 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pse of Commu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orientation towards Western Euro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0840" indent="-29196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uccessful: Poland, Czech Republic, Hungary, Slovenia, Baltic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154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Diversity, Conflict, and Technological Innovation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Migrations of Peopl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cultural groups: Greeks, Celts, Rom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cultural groups: Germanic &amp; Slavic Peo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The Rise of European Global Power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italism, Colonialism &amp; Imperi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Nations, States, and Nation-Stat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Nationalism and World War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190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Natural Environment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latitude west coast clim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terranean cl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latitude continental interior cl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226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Natural Environment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Geologic Variety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cient shield areas around the Baltic S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lands of Central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berian Meseta, Massif Central, Brittany, Rhine Highlands, Bohemian Massif, British and Norwegian upla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ng folded mount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ps, Sierra Nevada, Pyrenees, Apennines,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naric Alps, Pindus, Carpathians, Balk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ve pl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rth European Pla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262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Natural Environment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Long Coastlines and Navigable River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ins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andinavia, Jutland, Brittany, Iberia, Italy, Gree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tic, North, Mediterranean, Adriatic, Aege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Ri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hine, Elbe, Danube, Rhone, Seine, Loire, Thames, Vistula, 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aries: where rivers meet the s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ortant port 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298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Natural Environment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Forests, Fertile Soils, and Marine Resourc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ess so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Natural and Human Resourc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Environmental Issu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Forests to Fa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s of industr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Central Europe and the Black Tri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environmental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t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334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Global Changes and Local Responses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Europe after 1945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mocratic Centrali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te Sociali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ned Econom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ranat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370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>
            <a:off x="456840" y="1577880"/>
            <a:ext cx="8534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 Bold"/>
              </a:rPr>
              <a:t>Global Changes and Local Responses </a:t>
            </a:r>
            <a:endParaRPr b="0" lang="en-US" sz="3900" spc="-1" strike="noStrike">
              <a:solidFill>
                <a:srgbClr val="330066"/>
              </a:solidFill>
              <a:latin typeface="Arial Bol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</a:rPr>
              <a:t>Devolution within European Countries</a:t>
            </a:r>
            <a:endParaRPr b="0" lang="en-US" sz="2800" spc="-1" strike="noStrike">
              <a:solidFill>
                <a:srgbClr val="000000"/>
              </a:solidFill>
              <a:latin typeface="Arial Bold Italic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cal peoples desiring less rule from national govern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reg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rder areas of differing countries within European Union countries where the people within them work together to make trans-boundary movement easi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Sutton</dc:creator>
  <dc:description/>
  <dc:language>en-US</dc:language>
  <cp:lastModifiedBy/>
  <cp:revision>0</cp:revision>
  <dc:subject/>
  <dc:title>Chapter 3</dc:title>
</cp:coreProperties>
</file>